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type.wav" ContentType="audio/x-wav"/>
  <Override PartName="/ppt/media/chimes.wav" ContentType="audio/x-wav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5D8-952D-4505-B46C-1D5D9853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BBA-30CB-4A64-AF48-80CC9F35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C9B-F149-4EE7-BB56-B233A85F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307-C0EA-42F6-9945-DDBAE2FE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FB9-0C8D-40BC-8BC8-5A262D6D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550-68E9-467C-ABC2-19C61A2A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B4F-B048-4BA6-9C55-102AFFBC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8F0-170C-471E-B9F4-7B9C6066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E65-1868-4197-9472-792701FF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C89-9CD1-4CDC-A0E8-F49F0BF6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755-24F5-48F0-8315-09EEB358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2C6-423F-402B-B83D-CACCC07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E3A3-4A55-4E99-9D76-34CEB29AE0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190600" y="-11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http:/www.chinataiwan.org/webportal/pics/1081821754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76200" y="509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WordArt 5" descr=""/>
          <p:cNvPicPr/>
          <p:nvPr/>
        </p:nvPicPr>
        <p:blipFill>
          <a:blip r:embed="rId2"/>
          <a:stretch/>
        </p:blipFill>
        <p:spPr>
          <a:xfrm>
            <a:off x="1054080" y="-6480"/>
            <a:ext cx="7797960" cy="2530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33520" y="5562720"/>
            <a:ext cx="861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010280" y="2209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鲁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608480" y="111240"/>
            <a:ext cx="20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研读第一部分（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—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68360" y="907920"/>
            <a:ext cx="807732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文章开头写阿长名字由来的目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68360" y="2637000"/>
            <a:ext cx="8136000" cy="1556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阿长之所以有这个名字，只是因为她的前任叫这个名字，而大家又叫惯了，并非是她真的叫这个名字。久而久之，她的真名倒无人记得了。作者这样写，形象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刻画出阿长是一个不被人重视、地位低下的劳动人民形象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。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此外，以写名字的由来开头，还能起到使读者对阿长有个总的印象，从而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自然地引入下文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的作用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732720" y="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初识阿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79930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默读第一部分，概括出写长妈妈的事件，并说说这些事件体现了长妈妈怎样的性格特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690560" y="1890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整体感知第一部分（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—18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910560" y="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初识阿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"/>
          <p:cNvSpPr/>
          <p:nvPr/>
        </p:nvSpPr>
        <p:spPr>
          <a:xfrm>
            <a:off x="755640" y="1197000"/>
            <a:ext cx="71280" cy="3887640"/>
          </a:xfrm>
          <a:custGeom>
            <a:avLst/>
            <a:gdLst>
              <a:gd name="textAreaLeft" fmla="*/ 45720 w 71280"/>
              <a:gd name="textAreaRight" fmla="*/ 71640 w 7128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0000" y="54900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喜欢切切察察  低声絮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管束很严  喜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告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睡觉时摆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旦有古怪的仪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肚子的繁琐的道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谋害我的隐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6588000" y="1341360"/>
            <a:ext cx="157320" cy="795240"/>
          </a:xfrm>
          <a:custGeom>
            <a:avLst/>
            <a:gdLst>
              <a:gd name="textAreaLeft" fmla="*/ 0 w 157320"/>
              <a:gd name="textAreaRight" fmla="*/ 56880 w 157320"/>
              <a:gd name="textAreaTop" fmla="*/ 20520 h 795240"/>
              <a:gd name="textAreaBottom" fmla="*/ 77472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877080" y="134136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饶舌多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643280" y="4076640"/>
            <a:ext cx="30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淳朴无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960" y="2205000"/>
            <a:ext cx="7898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长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492360" y="189000"/>
            <a:ext cx="299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</a:rPr>
              <a:t>小  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242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拘小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6084720" y="3213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迷信，善良真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5148360" y="3141720"/>
            <a:ext cx="83880" cy="792000"/>
          </a:xfrm>
          <a:custGeom>
            <a:avLst/>
            <a:gdLst>
              <a:gd name="textAreaLeft" fmla="*/ 0 w 83880"/>
              <a:gd name="textAreaRight" fmla="*/ 30240 w 838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732720" y="11592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初识阿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457200" y="5335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24000" y="836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分析“吃福橘”事例（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8—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段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79280" y="177336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文中描写了长妈妈塞给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福橘的往事，是怎样描写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她的这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举动寄托了她怎样的愿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5280" y="35733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明确：文中写她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立刻伸出臂膊，一把将我按住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惶急地石着我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她又有所要求似的，摇着我的肩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。焦急的神态跃然纸上。而当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我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说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阿妈，恭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……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之后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她于是十分欢喜似的，笑将起来，同时将一点冰冷的东西，塞在我的嘴里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欣喜之态溢于言表。作者虽然认为这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元旦辟头的磨难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’’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，但正是这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磨难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中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寄托着长妈妈希望自己和孩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一年到头，顺顺溜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，这也与她青年守寡生活不幸有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463400" y="11592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研讨第一部分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—18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910560" y="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初识阿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459880" y="28526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用了语言、动作、神态描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380880" y="3049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初识阿长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0" y="2133720"/>
            <a:ext cx="8893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可怜、可悲、可爱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可恨、可笑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  <a:ea typeface="宋体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80880" y="38088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00"/>
                </a:solidFill>
                <a:latin typeface="Arial"/>
                <a:ea typeface="隶书"/>
              </a:rPr>
              <a:t>读懂阿长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219320" y="15238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透视鲁迅心中的阿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09480" y="2971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长妈妈当得起鲁迅怀念的原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565520" y="23868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173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读第二部分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长为我寻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思考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50920" y="2997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</a:rPr>
              <a:t>、作者在写长妈妈买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</a:rPr>
              <a:t>《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</a:rPr>
              <a:t>山海经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</a:rPr>
              <a:t>》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</a:rPr>
              <a:t>之前，为什么要写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</a:rPr>
              <a:t>叔祖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</a:rPr>
              <a:t>的疏懒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？（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19—20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808200" y="407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0" y="4437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与下面写阿长为我寻赠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山海经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形成鲜明的对比，更加突出“我”对阿长的感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08000" y="18900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539640" y="134136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阿长来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么一回事时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样想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想法表现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什么心情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第三大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24000" y="393372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想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她并非学者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了也无益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表明了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阿长心存隔阂乃至轻视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08000" y="18900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395280" y="1268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阿长买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海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什么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后第三大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8360" y="2852640"/>
            <a:ext cx="81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反应是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似乎遇着了一个霹雳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全体都震悚起来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又使我发生新的敬意了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别人不肯做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或不能做的事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她却能够做成功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她确有伟大的神力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谋害隐鼠的怨恨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此完全消失了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真可谓又惊又喜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感激不尽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9280" y="11592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40384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583800" y="434340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95280" y="1413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样理解文中说的阿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有伟大的神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后第三大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611280" y="2565360"/>
            <a:ext cx="8001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为这件事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别人不肯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谁也没有阿长那样知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心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谁也没有阿长那么热心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别人也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能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画的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«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山海经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»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很难找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要跑多少路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打听多少地方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谁能像阿长这么给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操心费事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况且阿长不识字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居然买来了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0" y="18900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luxun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3"/>
          <p:cNvSpPr txBox="1"/>
          <p:nvPr/>
        </p:nvSpPr>
        <p:spPr>
          <a:xfrm>
            <a:off x="3048120" y="3276720"/>
            <a:ext cx="2438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宋体"/>
              </a:rPr>
              <a:t>长妈妈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5564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她讲的美女蛇的故事真是神秘莫测，给百草园蒙上一层神秘的面纱。那么，长妈妈是一个什么样的人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看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39640" y="15573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在鲁迅先生的散文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从百草园到三味书屋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里，鲁迅除写了自己的老师寿镜吾先生之外，还写到了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个人，这个人是谁呢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533520" y="533520"/>
            <a:ext cx="2743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latin typeface="宋体"/>
              </a:rPr>
              <a:t>复习旧知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611280" y="1628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4.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这四本书，乃是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最初得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最为心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的宝书。”为什么这么说？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11280" y="292428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强调“最”，表示程度深，说明这本书“我”非常喜爱，给“我”留下难忘的印象，也表达我对阿长的敬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08000" y="18900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3"/>
          <p:cNvSpPr/>
          <p:nvPr/>
        </p:nvSpPr>
        <p:spPr>
          <a:xfrm>
            <a:off x="755640" y="1197000"/>
            <a:ext cx="71280" cy="3887640"/>
          </a:xfrm>
          <a:custGeom>
            <a:avLst/>
            <a:gdLst>
              <a:gd name="textAreaLeft" fmla="*/ 45720 w 71280"/>
              <a:gd name="textAreaRight" fmla="*/ 71640 w 7128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00000" y="54900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喜欢切切察察  低声絮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管束很严  喜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告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睡觉时摆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旦有古怪的仪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肚子的繁琐的道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我买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6588000" y="1341360"/>
            <a:ext cx="157320" cy="795240"/>
          </a:xfrm>
          <a:custGeom>
            <a:avLst/>
            <a:gdLst>
              <a:gd name="textAreaLeft" fmla="*/ 0 w 157320"/>
              <a:gd name="textAreaRight" fmla="*/ 56880 w 157320"/>
              <a:gd name="textAreaTop" fmla="*/ 20520 h 795240"/>
              <a:gd name="textAreaBottom" fmla="*/ 77472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689880" y="1341360"/>
            <a:ext cx="16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饶舌多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4643280" y="4076640"/>
            <a:ext cx="30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淳朴无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716360" y="4724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热爱 关心孩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960" y="2205000"/>
            <a:ext cx="7898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长妈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1116000" y="18900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</a:rPr>
              <a:t>第一、二部分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5003640" y="242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拘小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5718960" y="328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迷信，善良真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5148360" y="3141720"/>
            <a:ext cx="83880" cy="792000"/>
          </a:xfrm>
          <a:custGeom>
            <a:avLst/>
            <a:gdLst>
              <a:gd name="textAreaLeft" fmla="*/ 0 w 83880"/>
              <a:gd name="textAreaRight" fmla="*/ 30240 w 838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6732720" y="11592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初识阿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8244000" y="1557360"/>
            <a:ext cx="372960" cy="2808360"/>
          </a:xfrm>
          <a:custGeom>
            <a:avLst/>
            <a:gdLst>
              <a:gd name="textAreaLeft" fmla="*/ 0 w 372960"/>
              <a:gd name="textAreaRight" fmla="*/ 134640 w 3729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8583480" y="2492280"/>
            <a:ext cx="5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略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847368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详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179280" y="177336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文中最后两段除了记叙，还用了抒情的表达方式，抒写了作者的怀念之情，有感情地朗读出来。思考为何补叙阿长的身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11280" y="342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宋体"/>
                <a:ea typeface="方正姚体"/>
              </a:rPr>
              <a:t>明确：补叙阿长身世表明了阿长一生的不幸遭遇，更能体现她的性格，让人们更能理解她的行为，表达作者对她深深的同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812880" y="1125360"/>
            <a:ext cx="37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研讨第三部分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0—31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79280" y="11592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5571360" y="145044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395280" y="1844640"/>
            <a:ext cx="79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b0b"/>
                </a:solidFill>
                <a:uFillTx/>
                <a:latin typeface="华文行楷"/>
                <a:ea typeface="华文行楷"/>
              </a:rPr>
              <a:t>2.</a:t>
            </a:r>
            <a:r>
              <a:rPr b="1" lang="zh-CN" sz="3600" spc="-1" strike="noStrike" u="sng">
                <a:solidFill>
                  <a:srgbClr val="ff0b0b"/>
                </a:solidFill>
                <a:uFillTx/>
                <a:latin typeface="华文行楷"/>
                <a:ea typeface="华文行楷"/>
              </a:rPr>
              <a:t>作品的最后两段，表现了鲁迅对长妈妈的同情、尊敬、感激、怀念之情。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鲁迅的人生历程中，长妈妈曾起过那样重要的作用，但他竟不知道她的姓名和经历，这是多么叫人内疚的事情，他所能做的，只有祈祷仁厚的地母，安息阿妈的灵魂。鲁迅对阿长的深沉感情在这里表现得深切感人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12880" y="1052640"/>
            <a:ext cx="37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研讨第三部分（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0—31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8000" y="189000"/>
            <a:ext cx="20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方正姚体"/>
              </a:rPr>
              <a:t>读懂阿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468360" y="18900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小结</a:t>
            </a:r>
            <a:r>
              <a:rPr b="0" lang="en-US" sz="5400" spc="-1" strike="noStrike">
                <a:solidFill>
                  <a:srgbClr val="9900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读懂阿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24000" y="126828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（长妈妈是一个怎样的人？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课后第一题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68360" y="3213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阿长是一个很不幸而又热望一生平安的劳动妇女，她没有文化、粗俗、好事，而又心底善良、热心帮助孩子解决疑难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250920" y="26028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cc"/>
                </a:solidFill>
                <a:latin typeface="Times New Roman"/>
                <a:ea typeface="隶书"/>
              </a:rPr>
              <a:t>难点探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95280" y="2060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宋体"/>
              </a:rPr>
              <a:t>散文的“神不散”说的是：主题集中。写散文时要放得开，但是要受到中心思想的制约，所以还得收得拢。在阅读散文时，要注意抓住文章的线索，理清全篇的层次结构和理解全篇思想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24000" y="1268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的记叙线索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095560" y="508464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本文是以作者对长妈妈的感情变化为线索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468360" y="17002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0000"/>
                </a:solidFill>
                <a:latin typeface="Arial"/>
                <a:ea typeface="隶书"/>
              </a:rPr>
              <a:t>标出表明“我”对阿长感情变化的语句</a:t>
            </a:r>
            <a:r>
              <a:rPr b="0" lang="zh-CN" sz="7200" spc="-1" strike="noStrike">
                <a:solidFill>
                  <a:srgbClr val="ffcc66"/>
                </a:solidFill>
                <a:latin typeface="Arial"/>
                <a:ea typeface="隶书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图片1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609480" y="40464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对于阿长的平常举动，</a:t>
            </a:r>
            <a:r>
              <a:rPr b="1" lang="zh-CN" sz="2400" spc="-1" strike="noStrike" u="sng">
                <a:solidFill>
                  <a:srgbClr val="990000"/>
                </a:solidFill>
                <a:uFillTx/>
                <a:latin typeface="Times New Roman"/>
                <a:ea typeface="宋体"/>
              </a:rPr>
              <a:t>“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我实在不大佩服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685800" y="56991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文章最后以“仁厚黑暗的地母啊，愿在你怀里永安她的魂灵”结束，表达了作者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对阿长的深切怀念之情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39640" y="126828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宋体"/>
              </a:rPr>
              <a:t>对于阿长所懂得的许多规矩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‘我”也是‘不耐烦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55640" y="234936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尽管在阿长给“我”讲长毛的故事时，“我”也曾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发生过空前的敬意”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但那后来也“逐渐淡漠”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84360" y="3284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作者写知道阿长谋害了“我”的隐鼠时，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感情上是“憎恶”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84360" y="4365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是因为阿长给“我”买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《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山海经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》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，才真正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“使我发生新的敬意了”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甚至连“谋害隐鼠的怨恨，从此完全消灭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4038480" y="9907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4038480" y="20574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4038480" y="2924280"/>
            <a:ext cx="304920" cy="433440"/>
          </a:xfrm>
          <a:prstGeom prst="downArrow">
            <a:avLst>
              <a:gd name="adj1" fmla="val 50000"/>
              <a:gd name="adj2" fmla="val 35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4038480" y="4038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4038480" y="5257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40384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614400" y="4343400"/>
            <a:ext cx="10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恶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856880" y="1295280"/>
            <a:ext cx="5172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“</a:t>
            </a:r>
            <a:r>
              <a:rPr b="0" lang="zh-CN" sz="42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我”对阿长的感情是怎样变化的？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95280" y="3286080"/>
            <a:ext cx="5922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不大佩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292720" y="3860640"/>
            <a:ext cx="59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711960" y="2133720"/>
            <a:ext cx="11552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1476360" y="4221000"/>
            <a:ext cx="72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914400" y="495288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629080" y="3860640"/>
            <a:ext cx="59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空前的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2057400" y="495288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3"/>
          <p:cNvSpPr/>
          <p:nvPr/>
        </p:nvSpPr>
        <p:spPr>
          <a:xfrm flipV="1">
            <a:off x="6372360" y="4076640"/>
            <a:ext cx="720720" cy="525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7093080" y="342900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怀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3276720" y="47973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4645080" y="472608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914400" y="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916280" y="628560"/>
            <a:ext cx="7138800" cy="360"/>
            <a:chOff x="1916280" y="628560"/>
            <a:chExt cx="7138800" cy="360"/>
          </a:xfrm>
        </p:grpSpPr>
        <p:sp>
          <p:nvSpPr>
            <p:cNvPr id="240" name="Rectangle 4"/>
            <p:cNvSpPr/>
            <p:nvPr/>
          </p:nvSpPr>
          <p:spPr>
            <a:xfrm>
              <a:off x="1916280" y="628560"/>
              <a:ext cx="7138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1916280" y="628560"/>
              <a:ext cx="71388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Text Box 6"/>
          <p:cNvSpPr/>
          <p:nvPr/>
        </p:nvSpPr>
        <p:spPr>
          <a:xfrm>
            <a:off x="304920" y="457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7" descr="lunxun_1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304920" y="1486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本文通过记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儿时与长妈妈相处的几件事，刻画了一位虽然没有文化、粗俗、好事，但心地善良，热心帮助孩子解决疑难的普通保姆形象，表达了作者对长妈妈的尊敬、感激和怀念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7996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主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28800" y="500040"/>
            <a:ext cx="67928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f2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2f2f"/>
                </a:solidFill>
                <a:latin typeface="Times New Roman"/>
              </a:rPr>
              <a:t>题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阿长”，人名‘鲁迅家的一个女工；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书名。题目为一并列词组，文章即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通过写阿长和</a:t>
            </a: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山海经</a:t>
            </a: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的关系来体现阿长的性格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作者不详，共有十八篇，内容主要为民间传说中的地理知识，保存了不少远古的神话传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选自</a:t>
            </a: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朝花夕拾</a:t>
            </a:r>
            <a:r>
              <a:rPr b="1" lang="en-US" sz="2800" spc="-1" strike="noStrike">
                <a:solidFill>
                  <a:srgbClr val="cc0099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朝花夕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散文集，收录鲁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所作回忆性散文十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147360" y="28188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者怎样刻画的阿长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6553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欲扬先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详略得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选材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人物描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过渡与照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运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WordArt 5"/>
          <p:cNvSpPr txBox="1"/>
          <p:nvPr/>
        </p:nvSpPr>
        <p:spPr>
          <a:xfrm rot="5400000">
            <a:off x="-787680" y="966600"/>
            <a:ext cx="2655720" cy="722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写法研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539640" y="486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835280" y="43657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写人记事的文章采用恰当的写法可以做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生动传神、事半功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的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179280" y="1890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b0b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ff0b0b"/>
                </a:solidFill>
                <a:latin typeface="Times New Roman"/>
              </a:rPr>
              <a:t>欲扬先抑的手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24000" y="1197000"/>
            <a:ext cx="78483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运用了</a:t>
            </a:r>
            <a:r>
              <a:rPr b="1" lang="zh-CN" sz="3200" spc="-1" strike="noStrike" u="sng">
                <a:solidFill>
                  <a:srgbClr val="ff0b0b"/>
                </a:solidFill>
                <a:uFillTx/>
                <a:latin typeface="楷体_GB2312"/>
                <a:ea typeface="楷体_GB2312"/>
              </a:rPr>
              <a:t>欲扬先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写法，是为了突出作者对长妈妈的敬佩和怀念之请。先写了她名字的来由，讨厌她的絮叨、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管束严格、繁多的礼节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其实这一切都是为了反衬后文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对她的敬佩和怀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种写法可以使文章有层次，收到跌宕起伏的艺术效果。使描写的人物形象给人意外的惊喜和惊叹，起到出乎意外的效果，使人物形象更加真实可感，鲜明突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WordArt 5"/>
          <p:cNvSpPr txBox="1"/>
          <p:nvPr/>
        </p:nvSpPr>
        <p:spPr>
          <a:xfrm rot="5400000">
            <a:off x="7277040" y="1227240"/>
            <a:ext cx="2656080" cy="722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写法研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026"/>
          <p:cNvSpPr/>
          <p:nvPr/>
        </p:nvSpPr>
        <p:spPr>
          <a:xfrm>
            <a:off x="2895480" y="380880"/>
            <a:ext cx="35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734544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在写长妈妈的这几件事情中详写了买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山海经</a:t>
            </a: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这件事，略写了其他事，为什么要这样安排？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79280" y="2708280"/>
            <a:ext cx="86425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略写的内容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</a:rPr>
              <a:t>使人对长妈妈有个初步了解，她的外形特征，真实地反映长妈妈的一些毛病，但这些并不能削弱对阿长妈妈的敬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详写买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山海经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一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却令人对长妈妈刮目相看，在作者看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别人不肯做，或不能做的事情，她却能够做成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我们可以想到幼小的鲁迅对长妈妈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敬佩和感激之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0" y="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详略得当的选材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WordArt 6"/>
          <p:cNvSpPr txBox="1"/>
          <p:nvPr/>
        </p:nvSpPr>
        <p:spPr>
          <a:xfrm rot="5400000">
            <a:off x="7205400" y="966600"/>
            <a:ext cx="2655720" cy="722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写法研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533520" y="20876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宋体"/>
              </a:rPr>
              <a:t>文中略写的部分可否删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914400" y="3200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明确：记叙文的详略安排，是根据中心来确定的。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略写往往是记叙文中的烘托部分，没有略写，文章内容就会呆板，头绪就会不清，情节就会不连贯。如果说详写是红花，略写就是不可 少的绿叶。如文中略写的“我”不大佩服阿长的三件事就起到了丰富文章内容，更全面完整地刻画阿长这个人物形象，增强文章的真实性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50920" y="54936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详略得当的选材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250920" y="11253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指出下列各旬运用了什么描写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84360" y="1844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）她生得黄胖而矮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609480" y="2666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）最讨厌的是常喜欢切切察察，向人们低声絮说些什么事，还竖起第二个手指，在空中上下摇动，或者点着对手或自己的鼻尖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539640" y="4149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）她穿着新的蓝布衫回来了，一见面，就将一包书递给我，高兴地说道：“哥儿，有画儿的‘二哼经’，我给你买来了！”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5003640" y="1844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  <a:ea typeface="宋体"/>
              </a:rPr>
              <a:t>肖像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443640" y="3500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  <a:ea typeface="宋体"/>
              </a:rPr>
              <a:t>动作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684360" y="573408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66cc"/>
                </a:solidFill>
                <a:latin typeface="Times New Roman"/>
                <a:ea typeface="宋体"/>
              </a:rPr>
              <a:t>语言描写、外貌描写、动作描写、神态描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899640" y="260280"/>
            <a:ext cx="26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人物描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WordArt 11"/>
          <p:cNvSpPr txBox="1"/>
          <p:nvPr/>
        </p:nvSpPr>
        <p:spPr>
          <a:xfrm rot="5400000">
            <a:off x="7488000" y="1089000"/>
            <a:ext cx="237636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写法研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0" y="98100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过渡和照应是记叙文结构的重要组成部分。过渡，是连接段落、层次之间的纽带。一般来说，内容上的转折、叙述中的总分、行文中的起讫都要安排过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250920" y="3213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文章中有过渡性语句，如文中“但是她懂得许多规矩”，“然而我有一时也对她发生过空前的敬意”，“但当我哀悼隐鼠，给它复仇的时候，一面又在渴慕着绘图的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《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山海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》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了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79280" y="49417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也有过渡性段落“这种敬意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我惧惮她什么呢！”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Times New Roman"/>
                <a:ea typeface="宋体"/>
              </a:rPr>
              <a:t>这些</a:t>
            </a:r>
            <a:r>
              <a:rPr b="1" lang="zh-CN" sz="2400" spc="-1" strike="noStrike" u="sng">
                <a:solidFill>
                  <a:srgbClr val="ff2f2f"/>
                </a:solidFill>
                <a:uFillTx/>
                <a:latin typeface="Times New Roman"/>
                <a:ea typeface="宋体"/>
              </a:rPr>
              <a:t>过渡</a:t>
            </a:r>
            <a:r>
              <a:rPr b="1" lang="zh-CN" sz="2400" spc="-1" strike="noStrike" u="sng">
                <a:solidFill>
                  <a:srgbClr val="cc00cc"/>
                </a:solidFill>
                <a:uFillTx/>
                <a:latin typeface="Times New Roman"/>
                <a:ea typeface="宋体"/>
              </a:rPr>
              <a:t>使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  <a:ea typeface="宋体"/>
              </a:rPr>
              <a:t>文章能够很自然地由一件事写到另一件事，</a:t>
            </a:r>
            <a:r>
              <a:rPr b="1" lang="zh-CN" sz="2400" spc="-1" strike="noStrike" u="sng">
                <a:solidFill>
                  <a:srgbClr val="ff2f2f"/>
                </a:solidFill>
                <a:uFillTx/>
                <a:latin typeface="Times New Roman"/>
                <a:ea typeface="宋体"/>
              </a:rPr>
              <a:t>行文紧凑，结构严谨，浑然一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0" y="1890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过渡与照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运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WordArt 7"/>
          <p:cNvSpPr txBox="1"/>
          <p:nvPr/>
        </p:nvSpPr>
        <p:spPr>
          <a:xfrm rot="5400000">
            <a:off x="7488000" y="1089000"/>
            <a:ext cx="237636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写法研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685800" y="30492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cc"/>
                </a:solidFill>
                <a:latin typeface="Times New Roman"/>
                <a:ea typeface="隶书"/>
              </a:rPr>
              <a:t>照应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556000" y="386064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通过照应强调了阿长的不被人重视，地位低下。文中照应的例子很多。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照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不是重复，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是对前文内容的补充，前后映衬，加深读者的印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4360" y="134136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是指文章有些内容前后呼应，前面讲了，后面也有着落。如文中在开头写道“也终于不知道她姓什么”，后文是这样照应的，“我终于不知道她的姓名，她的经历；仅知道有一个过继的儿子，她大约是青年守寡的孤孀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" descr="lx"/>
          <p:cNvPicPr/>
          <p:nvPr/>
        </p:nvPicPr>
        <p:blipFill>
          <a:blip r:embed="rId2"/>
          <a:stretch/>
        </p:blipFill>
        <p:spPr>
          <a:xfrm>
            <a:off x="0" y="3733920"/>
            <a:ext cx="2265480" cy="3124080"/>
          </a:xfrm>
          <a:prstGeom prst="rect">
            <a:avLst/>
          </a:prstGeom>
          <a:ln w="0">
            <a:noFill/>
          </a:ln>
        </p:spPr>
      </p:pic>
      <p:sp>
        <p:nvSpPr>
          <p:cNvPr id="286" name="WordArt 7"/>
          <p:cNvSpPr txBox="1"/>
          <p:nvPr/>
        </p:nvSpPr>
        <p:spPr>
          <a:xfrm rot="5400000">
            <a:off x="7488000" y="1089000"/>
            <a:ext cx="237636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写法研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287" name="Rectangle 8"/>
          <p:cNvSpPr/>
          <p:nvPr/>
        </p:nvSpPr>
        <p:spPr>
          <a:xfrm flipV="1">
            <a:off x="4503600" y="2637720"/>
            <a:ext cx="4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457200" y="53352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寻找“阿长”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752480" y="1600200"/>
            <a:ext cx="721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回想身边的“阿长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57200" y="2743200"/>
            <a:ext cx="8305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你觉得阿长像身边的谁？是年迈不识字的老祖母，爱唠叨的母亲，还是爱管闲事的阿姨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隶书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395280" y="692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爱的方式有很多种，也许她们的方式是当时的你所不能理解或接受的。但是，有一天，你读懂了她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755640" y="357336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请以“读懂身边的爱”为话题，写一篇文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55640" y="4292640"/>
            <a:ext cx="838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007"/>
          <p:cNvPicPr/>
          <p:nvPr/>
        </p:nvPicPr>
        <p:blipFill>
          <a:blip r:embed="rId2"/>
          <a:stretch/>
        </p:blipFill>
        <p:spPr>
          <a:xfrm>
            <a:off x="6172200" y="304920"/>
            <a:ext cx="271620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76320" y="1981080"/>
          <a:ext cx="5943600" cy="4130640"/>
        </p:xfrm>
        <a:graphic>
          <a:graphicData uri="http://schemas.openxmlformats.org/drawingml/2006/table">
            <a:tbl>
              <a:tblPr/>
              <a:tblGrid>
                <a:gridCol w="1981080"/>
                <a:gridCol w="2100240"/>
                <a:gridCol w="1862280"/>
              </a:tblGrid>
              <a:tr h="108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2f2f"/>
                          </a:solidFill>
                          <a:latin typeface="Times New Roman"/>
                          <a:ea typeface="宋体"/>
                        </a:rPr>
                        <a:t>篇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2f2f"/>
                          </a:solidFill>
                          <a:latin typeface="Times New Roman"/>
                          <a:ea typeface="宋体"/>
                        </a:rPr>
                        <a:t>出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2f2f"/>
                          </a:solidFill>
                          <a:latin typeface="Times New Roman"/>
                          <a:ea typeface="宋体"/>
                        </a:rPr>
                        <a:t>文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  <a:tr h="108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  <a:tr h="93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9d18b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pSp>
        <p:nvGrpSpPr>
          <p:cNvPr id="57" name="Group 26"/>
          <p:cNvGrpSpPr/>
          <p:nvPr/>
        </p:nvGrpSpPr>
        <p:grpSpPr>
          <a:xfrm>
            <a:off x="304920" y="3124080"/>
            <a:ext cx="5410080" cy="825480"/>
            <a:chOff x="304920" y="3124080"/>
            <a:chExt cx="5410080" cy="825480"/>
          </a:xfrm>
        </p:grpSpPr>
        <p:sp>
          <p:nvSpPr>
            <p:cNvPr id="58" name="Text Box 27"/>
            <p:cNvSpPr/>
            <p:nvPr/>
          </p:nvSpPr>
          <p:spPr>
            <a:xfrm>
              <a:off x="304920" y="312408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从百草园到三味书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28"/>
            <p:cNvSpPr/>
            <p:nvPr/>
          </p:nvSpPr>
          <p:spPr>
            <a:xfrm>
              <a:off x="4572000" y="32763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散   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29"/>
            <p:cNvSpPr/>
            <p:nvPr/>
          </p:nvSpPr>
          <p:spPr>
            <a:xfrm>
              <a:off x="2362320" y="3276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朝花夕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30"/>
          <p:cNvGrpSpPr/>
          <p:nvPr/>
        </p:nvGrpSpPr>
        <p:grpSpPr>
          <a:xfrm>
            <a:off x="457200" y="5257800"/>
            <a:ext cx="5334120" cy="536040"/>
            <a:chOff x="457200" y="5257800"/>
            <a:chExt cx="5334120" cy="536040"/>
          </a:xfrm>
        </p:grpSpPr>
        <p:sp>
          <p:nvSpPr>
            <p:cNvPr id="62" name="Text Box 31"/>
            <p:cNvSpPr/>
            <p:nvPr/>
          </p:nvSpPr>
          <p:spPr>
            <a:xfrm>
              <a:off x="457200" y="52578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少年闰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32"/>
            <p:cNvSpPr/>
            <p:nvPr/>
          </p:nvSpPr>
          <p:spPr>
            <a:xfrm>
              <a:off x="2438280" y="5334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呐      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33"/>
            <p:cNvSpPr/>
            <p:nvPr/>
          </p:nvSpPr>
          <p:spPr>
            <a:xfrm>
              <a:off x="4648320" y="5334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小   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34"/>
          <p:cNvGrpSpPr/>
          <p:nvPr/>
        </p:nvGrpSpPr>
        <p:grpSpPr>
          <a:xfrm>
            <a:off x="380880" y="4343400"/>
            <a:ext cx="5334120" cy="459720"/>
            <a:chOff x="380880" y="4343400"/>
            <a:chExt cx="5334120" cy="459720"/>
          </a:xfrm>
        </p:grpSpPr>
        <p:sp>
          <p:nvSpPr>
            <p:cNvPr id="66" name="Text Box 35"/>
            <p:cNvSpPr/>
            <p:nvPr/>
          </p:nvSpPr>
          <p:spPr>
            <a:xfrm>
              <a:off x="380880" y="4343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社      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4572000" y="4343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小   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37"/>
            <p:cNvSpPr/>
            <p:nvPr/>
          </p:nvSpPr>
          <p:spPr>
            <a:xfrm>
              <a:off x="2361960" y="43434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呐      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38"/>
          <p:cNvSpPr/>
          <p:nvPr/>
        </p:nvSpPr>
        <p:spPr>
          <a:xfrm>
            <a:off x="7696080" y="5943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9"/>
          <p:cNvSpPr/>
          <p:nvPr/>
        </p:nvSpPr>
        <p:spPr>
          <a:xfrm>
            <a:off x="1540800" y="5335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  <a:ea typeface="宋体"/>
              </a:rPr>
              <a:t>我们学过的鲁迅作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62120" y="990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3"/>
          <p:cNvGrpSpPr/>
          <p:nvPr/>
        </p:nvGrpSpPr>
        <p:grpSpPr>
          <a:xfrm>
            <a:off x="285840" y="214200"/>
            <a:ext cx="8458200" cy="3714840"/>
            <a:chOff x="285840" y="214200"/>
            <a:chExt cx="8458200" cy="3714840"/>
          </a:xfrm>
        </p:grpSpPr>
        <p:sp>
          <p:nvSpPr>
            <p:cNvPr id="73" name="Text Box 2"/>
            <p:cNvSpPr/>
            <p:nvPr/>
          </p:nvSpPr>
          <p:spPr>
            <a:xfrm>
              <a:off x="2495520" y="214200"/>
              <a:ext cx="624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鲁迅（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8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36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原名周树人，浙江省绍兴市人，伟大的文学家、思想家、革命家。著作有杂文、小说、散文、诗歌等，收在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鲁迅全集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里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5" descr=""/>
            <p:cNvPicPr/>
            <p:nvPr/>
          </p:nvPicPr>
          <p:blipFill>
            <a:blip r:embed="rId1"/>
            <a:stretch/>
          </p:blipFill>
          <p:spPr>
            <a:xfrm>
              <a:off x="285840" y="290520"/>
              <a:ext cx="2133720" cy="36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TextBox 6"/>
          <p:cNvSpPr/>
          <p:nvPr/>
        </p:nvSpPr>
        <p:spPr>
          <a:xfrm>
            <a:off x="2571840" y="2071800"/>
            <a:ext cx="635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，首次用“鲁迅”的笔名，发表中国现代文学史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第一篇白话小说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狂人日记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奠定了新文学运动的 基石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间，陆续创作出版了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小说集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呐喊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彷徨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论文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散文诗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散文集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朝花夕拾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杂文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华盖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专集。其中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发表的中篇小说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阿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正传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是中国现代文学 史上的不朽杰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71680" y="3571920"/>
            <a:ext cx="4618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11280" y="907920"/>
            <a:ext cx="373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识记字词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2286000"/>
            <a:ext cx="6172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骇         惶急         疮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掳         渴慕         霹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悚         诘问         惧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30880" y="1730520"/>
            <a:ext cx="11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宋体"/>
              </a:rPr>
              <a:t>hà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064680" y="1752480"/>
            <a:ext cx="20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宋体"/>
              </a:rPr>
              <a:t>huán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g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401080" y="1752480"/>
            <a:ext cx="22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hu</a:t>
            </a:r>
            <a:r>
              <a:rPr b="1" lang="en-US" sz="4000" spc="-1" strike="noStrike">
                <a:solidFill>
                  <a:srgbClr val="99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g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1828800" y="312408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ǔ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038480" y="304812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ù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004440" y="3076560"/>
            <a:ext cx="13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ī  lì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522080" y="4343400"/>
            <a:ext cx="14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ǒn</a:t>
            </a:r>
            <a:r>
              <a:rPr b="0" lang="en-US" sz="40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g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586320" y="4343400"/>
            <a:ext cx="6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402960" y="43718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4140360" y="256536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6095880" y="25146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4267080" y="38862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095880" y="38862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3733920" y="5181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6705720" y="5181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3419640" y="436572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宋体"/>
              </a:rPr>
              <a:t>ji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22"/>
          <p:cNvSpPr/>
          <p:nvPr/>
        </p:nvSpPr>
        <p:spPr>
          <a:xfrm>
            <a:off x="6662520" y="38606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解释词语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05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莫名其妙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深不可测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情有可原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惶急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诘问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惧惮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</a:rPr>
              <a:t>震悚</a:t>
            </a:r>
            <a:r>
              <a:rPr b="0" lang="zh-CN" sz="2800" spc="-1" strike="noStrike">
                <a:solidFill>
                  <a:srgbClr val="ff0000"/>
                </a:solidFill>
                <a:latin typeface="仿宋_GB2312"/>
              </a:rPr>
              <a:t>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619280" y="4581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害怕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PMingLiU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763640" y="522936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身体因恐惧或过度兴奋而颤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PMingLiU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692360" y="3933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追问、责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PMingLiU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692360" y="335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恐惧、着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PMingLiU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195640" y="2781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从情理上可以原谅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PMingLiU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484360" y="191772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深得难以测量。比喻对人或事物的情况捉摸不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627280" y="112536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没有人能说明他的奥妙，表示事情很奇怪，使人不明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662560" y="115920"/>
            <a:ext cx="378720" cy="581400"/>
          </a:xfrm>
          <a:prstGeom prst="rect">
            <a:avLst/>
          </a:prstGeom>
          <a:solidFill>
            <a:srgbClr val="fdf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默读课文，给文章划分层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50920" y="1197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一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1—18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）：回忆阿长的往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0920" y="2565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二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19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—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29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）：写阿长为我寻赠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山海经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24000" y="4076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三（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30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—</a:t>
            </a:r>
            <a:r>
              <a:rPr b="1" lang="en-US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31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），抒发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对长妈妈的深沉怀念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80880" y="3049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初识阿长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752480" y="121932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隶书"/>
              </a:rPr>
              <a:t>——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谈谈你眼中的阿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33520" y="23623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阿长的身份、言行和性格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3T12:36:53Z</dcterms:created>
  <dc:creator/>
  <dc:description/>
  <cp:keywords/>
  <dc:language>en-US</dc:language>
  <cp:lastModifiedBy>Administrator</cp:lastModifiedBy>
  <dcterms:modified xsi:type="dcterms:W3CDTF">2014-12-24T08:08:29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